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47D-78D9-4F5D-ACF1-EC746ACD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FF4-A30F-4621-B987-85E46BC1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1C0-16D4-4204-A39F-BAA8CC29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E9F-DD74-4367-B95F-65E9C2AB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CFC-B361-4666-8FCC-288C350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D3F-07B6-4510-B29E-0DDB563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19A-C748-412F-9EE2-539C638C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9D2-494B-4EFD-9500-AFDB33AF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319-4515-447E-804F-3541F06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7B5-9D35-4D87-A439-75D1569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259-0611-4937-8C94-BC27A95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848-D782-4ADE-9DE8-7010F22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C39-E082-484B-A217-29EB5BE39B6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lessia e Rachele</a:t>
            </a:r>
            <a:br>
              <a:rPr sz="4400"/>
            </a:br>
            <a:r>
              <a:rPr b="1" lang="it-IT" sz="6600" spc="-1" strike="noStrike" u="sng">
                <a:solidFill>
                  <a:srgbClr val="ff0066"/>
                </a:solidFill>
                <a:uFillTx/>
                <a:latin typeface="Edwardian Script ITC"/>
              </a:rPr>
              <a:t>Il pane nel mon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cco i tipi di pane più conosciuti e le diverse preparazioni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ane è uno degli alimenti più consumati nel mondo, ma è anche uno degli alimenti dei quali esistono più varia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a quali sono i tipi di pane più conosciuti al mo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opriamoli tut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img_17962486965208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 u="sng">
                <a:solidFill>
                  <a:srgbClr val="99ff99"/>
                </a:solidFill>
                <a:uFillTx/>
                <a:latin typeface="arial"/>
              </a:rPr>
              <a:t>Baguette franc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Baguette é famosa per il contrasto la crosta croccante e la mollica delicata,ma è anche caratterizzata dalla forma stretta e lung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37432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ndia-resiz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cc"/>
                </a:solidFill>
                <a:latin typeface="Microsoft YaHei Light"/>
              </a:rPr>
              <a:t>Pane Naan indian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ipicamente indiano, questo pane a base di grano è essenziale durante i pasti tradizionali indiani. Cotto in uno speciale forno che si chiama tandoori , viene servito spalmandolo di ghee(burro india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ane-indiano-naan"/>
          <p:cNvPicPr/>
          <p:nvPr/>
        </p:nvPicPr>
        <p:blipFill>
          <a:blip r:embed="rId2"/>
          <a:stretch/>
        </p:blipFill>
        <p:spPr>
          <a:xfrm>
            <a:off x="2195640" y="3068640"/>
            <a:ext cx="433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vacanze-mare"/>
          <p:cNvPicPr/>
          <p:nvPr/>
        </p:nvPicPr>
        <p:blipFill>
          <a:blip r:embed="rId1"/>
          <a:stretch/>
        </p:blipFill>
        <p:spPr>
          <a:xfrm>
            <a:off x="-541440" y="0"/>
            <a:ext cx="10044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99"/>
                </a:solidFill>
                <a:latin typeface="Segoe Script"/>
              </a:rPr>
              <a:t>Pane carasau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483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È un pane tipico sardo, singolare perché è composto di sfoglie molto sottili e croccanti: preparato con grano duro. Viene chiamato carta musica perché assomiglia alle pergamene sulle quali un tempo venivano composte le musiche s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rdegna_p153--420x520"/>
          <p:cNvPicPr/>
          <p:nvPr/>
        </p:nvPicPr>
        <p:blipFill>
          <a:blip r:embed="rId2"/>
          <a:stretch/>
        </p:blipFill>
        <p:spPr>
          <a:xfrm>
            <a:off x="1979640" y="3141720"/>
            <a:ext cx="5334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srael_3038_12229_433-265_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93366"/>
                </a:solidFill>
                <a:latin typeface="Bradley Hand ITC"/>
              </a:rPr>
              <a:t>Pane azzimo ( ebraico)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Arial"/>
              </a:rPr>
              <a:t>Il termine azzimo significa privo di lievit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Arial"/>
              </a:rPr>
              <a:t>Questo pane è soltanto preparato con acqua e farina , per poi essere cotta al forn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ane-azzimo-4622450"/>
          <p:cNvPicPr/>
          <p:nvPr/>
        </p:nvPicPr>
        <p:blipFill>
          <a:blip r:embed="rId2"/>
          <a:stretch/>
        </p:blipFill>
        <p:spPr>
          <a:xfrm>
            <a:off x="1979640" y="3137040"/>
            <a:ext cx="50799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_2_fotogallery_3005876_1_im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66"/>
                </a:solidFill>
                <a:latin typeface="Blackadder ITC"/>
              </a:rPr>
              <a:t>Pane arab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cc"/>
                </a:solidFill>
                <a:latin typeface="Arial"/>
              </a:rPr>
              <a:t>Il pane arabo è pane tondo, piatto e spesso viene cotto nei forni di terra cotta bassi. Questo pane , in genere , accompagna i piatti e ripieni con carne e verd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ane-arabo-pita"/>
          <p:cNvPicPr/>
          <p:nvPr/>
        </p:nvPicPr>
        <p:blipFill>
          <a:blip r:embed="rId2"/>
          <a:stretch/>
        </p:blipFill>
        <p:spPr>
          <a:xfrm>
            <a:off x="2700360" y="3933720"/>
            <a:ext cx="4029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4T11:34:56Z</dcterms:created>
  <dc:creator>Utente Windows</dc:creator>
  <dc:description/>
  <dc:language>en-US</dc:language>
  <cp:lastModifiedBy>Paola</cp:lastModifiedBy>
  <dcterms:modified xsi:type="dcterms:W3CDTF">2017-04-19T19:51:53Z</dcterms:modified>
  <cp:revision>6</cp:revision>
  <dc:subject/>
  <dc:title>Il pane nel mondo:</dc:title>
</cp:coreProperties>
</file>