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0AB3-A562-43B5-8637-4BF37BFD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E60A-3CBF-4D91-B9D0-E9302AD5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1969-7CAD-4EBE-894B-8ECB56835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1330-4024-49EE-9EB6-05647286F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5981-25BE-471B-BB1C-AD70D9FB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ECEF-C803-48DC-BE90-E2E09442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F529-5D7E-47C7-8B7E-07A320D8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B524-15B9-4305-A948-EE6519FA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020F-FD9A-4FE2-9CDB-BF646F64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9A6C-A5D0-480A-B946-97852DAB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9983-5B3E-4526-86D8-C15142BF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FC26-B023-426F-BC89-358AB9EB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B54B-0320-4C4F-BE61-B5A50488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E74A-C234-485B-8E76-6E17CB3E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9912-9814-4663-9F68-570B6069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11EA-455A-4725-BF15-85FD35179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B441-AD55-468C-BFE6-B33DC7B5A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252A-1FD5-49A0-9AA7-CB974ACF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B714-8F8B-4A80-B372-488FC8F4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9ADE-1063-4282-B91A-5F909F59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E6C8-E7FB-41DB-A966-58E21CC8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B268-DCEB-4C46-9F81-14271B24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29B2-EB16-4353-A841-98A50A71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1407-6CD3-483F-892A-E0589809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08BE-9AE6-4EA3-9681-653002D97FBD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AD57-12D3-453C-8373-0036F60D040F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0000"/>
                </a:solidFill>
                <a:latin typeface="Tahoma"/>
              </a:rPr>
              <a:t>I CIBI PIU’ STRANI DEL MONDO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GABRIELE RICCO’ MALPE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CIRO BUSIEL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cc"/>
                </a:solidFill>
                <a:latin typeface="Tahoma"/>
              </a:rPr>
              <a:t>ZUPPA DI NIDI DI UCCELLO</a:t>
            </a:r>
            <a:br>
              <a:rPr sz="4000"/>
            </a:br>
            <a:r>
              <a:rPr b="0" lang="it-IT" sz="3200" spc="-1" strike="noStrike">
                <a:solidFill>
                  <a:srgbClr val="ffffcc"/>
                </a:solidFill>
                <a:latin typeface="Tahoma"/>
              </a:rPr>
              <a:t>CIN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E RONDINI, I CUI NIDI SONO UTILIZZATI PER FARE QUESTA ZUPPA, COSTRUISCONO I LORO RIFUGI SOPRATTUTTO CON LA SALIVA. QUESTA PRELIBATEZZA GELATINOSA  E GOMMOSA E’ UNO DEI PRODOTTI ANIMALI PIU’ COSTOS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3203640" y="4365720"/>
            <a:ext cx="33843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cc"/>
                </a:solidFill>
                <a:latin typeface="Tahoma"/>
              </a:rPr>
              <a:t>LE TARANTOLE FRITTE</a:t>
            </a:r>
            <a:br>
              <a:rPr sz="4000"/>
            </a:br>
            <a:r>
              <a:rPr b="0" lang="it-IT" sz="3200" spc="-1" strike="noStrike">
                <a:solidFill>
                  <a:srgbClr val="ffffcc"/>
                </a:solidFill>
                <a:latin typeface="Tahoma"/>
              </a:rPr>
              <a:t>CAMBOGI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I cambogiani friggono enormi ragn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Per pochi centesimi si possono provare queste delizie croccanti e allo stesso tempo appiccicos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2556000" y="3933720"/>
            <a:ext cx="41036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cc"/>
                </a:solidFill>
                <a:latin typeface="Tahoma"/>
              </a:rPr>
              <a:t>CASU MARZU </a:t>
            </a:r>
            <a:br>
              <a:rPr sz="4000"/>
            </a:br>
            <a:r>
              <a:rPr b="0" lang="it-IT" sz="3200" spc="-1" strike="noStrike">
                <a:solidFill>
                  <a:srgbClr val="ffffcc"/>
                </a:solidFill>
                <a:latin typeface="Tahoma"/>
              </a:rPr>
              <a:t>SARDEGN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Il nome comune per il Casu Marzu è “ formaggio di vermi”. Le larve delle mosc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vengono introdotte nel latte di pecora e la fermentazione avviene quando le larve digeriscono i grassi del formaggi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2700360" y="4437000"/>
            <a:ext cx="3384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cc"/>
                </a:solidFill>
                <a:latin typeface="Tahoma"/>
              </a:rPr>
              <a:t>OMELETTE DI CERVELLO DI MAIALE </a:t>
            </a:r>
            <a:br>
              <a:rPr sz="4000"/>
            </a:br>
            <a:r>
              <a:rPr b="0" lang="it-IT" sz="3200" spc="-1" strike="noStrike">
                <a:solidFill>
                  <a:srgbClr val="ffffcc"/>
                </a:solidFill>
                <a:latin typeface="Tahoma"/>
              </a:rPr>
              <a:t>FILIPPIN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Si tratta di cervello di maiale crudo, fatto a cubetti, mescolato con verdure e uova sbattute, il tutto frit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2627280" y="3573360"/>
            <a:ext cx="38163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cc"/>
                </a:solidFill>
                <a:latin typeface="Tahoma"/>
              </a:rPr>
              <a:t>OCCHIO DI TONNO</a:t>
            </a:r>
            <a:br>
              <a:rPr sz="4000"/>
            </a:br>
            <a:r>
              <a:rPr b="0" lang="it-IT" sz="3200" spc="-1" strike="noStrike">
                <a:solidFill>
                  <a:srgbClr val="ffffcc"/>
                </a:solidFill>
                <a:latin typeface="Tahoma"/>
              </a:rPr>
              <a:t>GIAPPON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Si tratta di bulbi oculari di tonno bolliti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2268360" y="2492280"/>
            <a:ext cx="51120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cc"/>
                </a:solidFill>
                <a:latin typeface="Tahoma"/>
              </a:rPr>
              <a:t>BLODPLATTAR</a:t>
            </a:r>
            <a:br>
              <a:rPr sz="4000"/>
            </a:br>
            <a:r>
              <a:rPr b="0" lang="it-IT" sz="3200" spc="-1" strike="noStrike">
                <a:solidFill>
                  <a:srgbClr val="ffffcc"/>
                </a:solidFill>
                <a:latin typeface="Tahoma"/>
              </a:rPr>
              <a:t>SVEZI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Blodplattar è la parola svedese per “ pancake di sangue”. Si tratta di sangue, generalmente di maiale, montato e fritto. È un contorno croccante che, di solito, accompagna la carne di ren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2627280" y="4265640"/>
            <a:ext cx="3816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30T10:21:52Z</dcterms:created>
  <dc:creator>Utente Windows</dc:creator>
  <dc:description/>
  <dc:language>en-US</dc:language>
  <cp:lastModifiedBy>segreteria7</cp:lastModifiedBy>
  <dcterms:modified xsi:type="dcterms:W3CDTF">2017-04-24T10:09:22Z</dcterms:modified>
  <cp:revision>4</cp:revision>
  <dc:subject/>
  <dc:title>I CIBI PIU’ STRANI DEL MONDO</dc:title>
</cp:coreProperties>
</file>