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877D-78E8-4CDF-AD17-42FA5462A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B4A2-9753-4687-9586-3963A5A55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AEEF-AA4E-4781-B63E-D73029D81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7663-74E6-4C8C-990E-30DDA0C71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34C2-CB44-4FFB-84C9-B6150A74F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9627-BAC8-444D-BC45-5E77A9BBA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63AB-0D5D-4931-BE4B-EF4A1AD0F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9B8E-275C-4618-88DD-67F8F9704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D3EC-80D5-4144-AD46-9B405373F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4137-E270-46BD-B7DC-6E6C51DF6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0143-F9CA-4222-9677-27421EF58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CBB8-919F-4BFA-967D-158FE073D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83EA6-950E-4A52-A1D4-41CC8F1E081A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the-most-traditional"/>
          <p:cNvPicPr/>
          <p:nvPr/>
        </p:nvPicPr>
        <p:blipFill>
          <a:blip r:embed="rId1"/>
          <a:stretch/>
        </p:blipFill>
        <p:spPr>
          <a:xfrm>
            <a:off x="-324000" y="0"/>
            <a:ext cx="100807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it-IT" sz="4000" spc="-1" strike="noStrike" u="sng">
                <a:solidFill>
                  <a:srgbClr val="006600"/>
                </a:solidFill>
                <a:uFillTx/>
                <a:latin typeface="Microsoft JhengHei UI"/>
              </a:rPr>
              <a:t>Desirè e Annamaria</a:t>
            </a:r>
            <a:br>
              <a:rPr sz="4000"/>
            </a:br>
            <a:r>
              <a:rPr b="1" lang="it-IT" sz="4000" spc="-1" strike="noStrike">
                <a:solidFill>
                  <a:srgbClr val="000000"/>
                </a:solidFill>
                <a:latin typeface="Microsoft JhengHei UI"/>
              </a:rPr>
              <a:t> </a:t>
            </a:r>
            <a:br>
              <a:rPr sz="4000"/>
            </a:br>
            <a:r>
              <a:rPr b="1" lang="it-IT" sz="5400" spc="-1" strike="noStrike">
                <a:solidFill>
                  <a:srgbClr val="006600"/>
                </a:solidFill>
                <a:latin typeface="Microsoft JhengHei UI"/>
              </a:rPr>
              <a:t>Bryndzove halusky</a:t>
            </a:r>
            <a:br>
              <a:rPr sz="5400"/>
            </a:br>
            <a:r>
              <a:rPr b="1" lang="it-IT" sz="2800" spc="-1" strike="noStrike" u="sng">
                <a:solidFill>
                  <a:srgbClr val="006600"/>
                </a:solidFill>
                <a:uFillTx/>
                <a:latin typeface="Microsoft JhengHei UI"/>
              </a:rPr>
              <a:t>ricetta slovacca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79280" y="2781360"/>
            <a:ext cx="8229600" cy="158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0916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916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916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916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cc"/>
                </a:solidFill>
                <a:latin typeface="Arial"/>
              </a:rPr>
              <a:t>Il brynzone halusky è un piatto tipico slovacco e si accompagna con il keffir cioè latte aci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91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0000"/>
                </a:solidFill>
                <a:latin typeface="Arial"/>
              </a:rPr>
              <a:t>GLI INGREDIEN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475128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7 patate med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Un cucchiaino di s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Un bicchiere e mezzo di farina di semo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PER IL SUGHET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200 g di Brynza (formaggio acido di pecor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200g di panna aci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ome contorn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ancetta affumic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1" descr="slovacco"/>
          <p:cNvPicPr/>
          <p:nvPr/>
        </p:nvPicPr>
        <p:blipFill>
          <a:blip r:embed="rId2"/>
          <a:stretch/>
        </p:blipFill>
        <p:spPr>
          <a:xfrm>
            <a:off x="4427640" y="1320840"/>
            <a:ext cx="431964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0000"/>
                </a:solidFill>
                <a:latin typeface="Arial"/>
              </a:rPr>
              <a:t>Preparazio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ulire le patate e grattugiarle finement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ggiungere alle patate sale e farina e mescolare leggerment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’ impasto deve essere leggero e poco appiccicoso,quando l’acqua  bolle, buttarlo in acqua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Quando risale bisogna scolarlo in una ciotola e intanto preparare la Brynza con panna acida mescolata in una ciotola,mentre nella padella friggere la pancetta tagliata a cubett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ul piatto servire le Halusky con il sughetto di Brynza,infine mettere la pancetta sopr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30T10:31:04Z</dcterms:created>
  <dc:creator>Utente Windows</dc:creator>
  <dc:description/>
  <dc:language>en-US</dc:language>
  <cp:lastModifiedBy>Paola</cp:lastModifiedBy>
  <dcterms:modified xsi:type="dcterms:W3CDTF">2017-04-19T19:38:13Z</dcterms:modified>
  <cp:revision>4</cp:revision>
  <dc:subject/>
  <dc:title>RICETTA SLOVACCA Brynzone halusky ( definizione e ingredienti)</dc:title>
</cp:coreProperties>
</file>